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A882-5D50-4757-834D-F55CA4A6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0376-0C07-42F9-97A1-9EEFF09D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FFC7-C320-4ABE-AD6F-53AE93F6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21B9-0EDE-40CF-91FC-B662D2B1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18FA-B80E-4066-A984-B8E1D501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F6E0-7401-4DE0-9592-5AAC0142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696E-C9D2-42F3-A06A-620517B4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CC7B-5663-4C56-90D2-2969E5D6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FD59-7E56-45C4-A710-66678E72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936C-2BB6-41D6-A0FB-0109B586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3775-A77D-477A-A3CD-FBF5D7C0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CACC-4EBF-4625-B9F6-652A47F9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E6E1-C5BA-46E0-AEC1-626344E3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1184-C8E6-4E64-9DD8-9D2EF5CC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E8C1-32F1-40CD-B3E5-12FA4960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1BE1-173F-4C2B-B45B-20CC33D8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59BA-3070-4587-B4C1-E56F98A2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D86B1-A75A-4679-999C-6E11AF1E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E06B1-A254-4EB7-8295-A9BF8ADC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6B1BA-1B1A-4001-AAC2-EF39404F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608C3-A0FB-4A67-BD3C-05A31B08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324E7-A33B-4665-9077-1A053043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BEC6-23B3-40E4-86D6-391A47C7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EF77A-4A66-44AA-8DF7-73FEC4D2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1CCD1-D5A4-47CF-B0B7-3470DBA2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1716D-B701-413F-B13C-31CEE745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AF122-BD1F-4DC3-B4EE-872463AF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849C6-BD8C-491A-B25C-F80DDAAB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75DDD-D5D0-4503-B566-7CD955D1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8E21A-FF61-477A-980F-F45E6423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3FE77-FBFD-4AF4-A744-9B52DE9F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168FA-2478-45E2-9E1C-BD5DF7D9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62347-0B71-4C9D-BD7A-F79B28AB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5E3D-AA73-4947-AE54-4C8C5DE2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6B355-4288-41B2-8926-3B42A148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49E5D-6CAB-410C-B1A1-E34BC7F6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62805-B761-4D48-9104-06D423CC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91C9C-D317-4DB3-B8DE-528FE522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EB970-CA9C-4435-86D2-D4F014DD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D94EA-21BA-44C2-93FF-2D1939FE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A7147-796A-4345-A9F5-B8913B8D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76EF1-D0C7-427B-9303-79CE3F7E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F8A99-4504-435A-BA82-895B458A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CB4E-E20B-4641-A51B-F8CAC75A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3167-74E6-4088-8CC9-B5CF6990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D149-0946-4E87-8B1E-84A7E14A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E698-041B-47FD-8A5C-CD40703E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E727-CC3A-461C-A743-834C2522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7058-55D8-4F15-A389-698D0B79B6E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D2D0-68F0-4398-9AF8-B4C514E9863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3C72-A227-4A1E-A917-17E461273BE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43A6-DA14-46D0-8279-89D20C5318D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8229600" cy="1962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ulletin Boar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Content Placeholder 3" descr="wEDTECK 002.jpg"/>
          <p:cNvPicPr/>
          <p:nvPr/>
        </p:nvPicPr>
        <p:blipFill>
          <a:blip r:embed="rId1"/>
          <a:stretch/>
        </p:blipFill>
        <p:spPr>
          <a:xfrm>
            <a:off x="0" y="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wEDTECK 003.jpg"/>
          <p:cNvPicPr/>
          <p:nvPr/>
        </p:nvPicPr>
        <p:blipFill>
          <a:blip r:embed="rId2"/>
          <a:stretch/>
        </p:blipFill>
        <p:spPr>
          <a:xfrm>
            <a:off x="0" y="3309840"/>
            <a:ext cx="4732200" cy="35481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wEDTECK 004.jpg"/>
          <p:cNvPicPr/>
          <p:nvPr/>
        </p:nvPicPr>
        <p:blipFill>
          <a:blip r:embed="rId3"/>
          <a:stretch/>
        </p:blipFill>
        <p:spPr>
          <a:xfrm>
            <a:off x="4411800" y="3309840"/>
            <a:ext cx="4732200" cy="3548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wEDTECK 001.jpg"/>
          <p:cNvPicPr/>
          <p:nvPr/>
        </p:nvPicPr>
        <p:blipFill>
          <a:blip r:embed="rId4"/>
          <a:stretch/>
        </p:blipFill>
        <p:spPr>
          <a:xfrm>
            <a:off x="4411800" y="0"/>
            <a:ext cx="4732200" cy="3548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Content Placeholder 3" descr="wEDTECK 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4" descr="wEDTECK 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Picture 6" descr="wEDTECK 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5" descr="wEDTECK 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oints for Improv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etter heads are not that big enough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Announcements/Jobs posted are not eye-catch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Jobs Listed are scrambled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JOB OPPORTUNIT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04760"/>
            <a:ext cx="35812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N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TITSE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5’6’’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easing Personalit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SED/BEED degree hold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th 2 to 3 years experien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pply now at the Ateneo Human Resources Section look for Criseld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Content Placeholder 2"/>
          <p:cNvSpPr/>
          <p:nvPr/>
        </p:nvSpPr>
        <p:spPr>
          <a:xfrm>
            <a:off x="4343400" y="1828800"/>
            <a:ext cx="358128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NAHAN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GU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easing Pers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SED FILIPINO MAJ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y 2 to 3 taong eksperyensi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umugol na sa Filipino department at hanapin si Majorie o si Arce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C:\Program Files (x86)\Microsoft Office\MEDIA\CAGCAT10\j0301252.wmf"/>
          <p:cNvPicPr/>
          <p:nvPr/>
        </p:nvPicPr>
        <p:blipFill>
          <a:blip r:embed="rId1"/>
          <a:stretch/>
        </p:blipFill>
        <p:spPr>
          <a:xfrm>
            <a:off x="7162920" y="205740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8T21:42:29Z</dcterms:created>
  <dc:creator>Imperialdramon</dc:creator>
  <dc:description/>
  <dc:language>en-US</dc:language>
  <cp:lastModifiedBy>Jaiza Arcilla </cp:lastModifiedBy>
  <dcterms:modified xsi:type="dcterms:W3CDTF">2012-08-29T23:57:29Z</dcterms:modified>
  <cp:revision>6</cp:revision>
  <dc:subject/>
  <dc:title>Slide 1</dc:title>
</cp:coreProperties>
</file>